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3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10.png" ContentType="image/png"/>
  <Override PartName="/ppt/media/image6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1D8E2-20DD-4F35-8EE2-C7330F4A24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6D49F-5A08-4D9C-954B-28E47CA969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RIEC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EC is an employers’ council of all labour-market participants – essentially, any organization that has an interest in an employer’s ability to hire and retain talent in this changing labour mark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ncludes employers of all types, community organizations, business / industry and professional associations, all levels of government, labour,  educational institutions and individual lead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believe that with an increasingly culturally diverse population in the GTA, the key to being labour-market ready in the 21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ntury is based on being immigrant-ready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, our mandate is to help GTA employers become labour-market ready by helping them become immigrant rea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E6922-41CF-4B36-AA15-2415646F85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9CA43-E0A1-4E0B-94A9-DC98677F29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allenges of employer eng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l contact (network development, create opportunities, leveraging existing partne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rnover of employer contacts (institutional involvem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g sales cycle (success as a factor of need, timing and capacit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contacts within organizations that are not coordin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ernal factors; i.e. recession (adjust messag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ing buy-in across all levels (champions, facilitating internal communications, pilot succes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priate and effective opportunities for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ployer fatigue (manage and coordinate ask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6B5C1-9A5D-4656-9A44-02CF1399FF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5B2EC-542D-4CDB-982C-9A18D0DD47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228600" y="228600"/>
            <a:ext cx="8686800" cy="1295280"/>
          </a:xfrm>
          <a:prstGeom prst="rect">
            <a:avLst/>
          </a:prstGeom>
          <a:solidFill>
            <a:srgbClr val="e3e3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10" descr="NewTRIECcolourGreyBkg"/>
          <p:cNvPicPr/>
          <p:nvPr/>
        </p:nvPicPr>
        <p:blipFill>
          <a:blip r:embed="rId2"/>
          <a:stretch/>
        </p:blipFill>
        <p:spPr>
          <a:xfrm>
            <a:off x="380880" y="304920"/>
            <a:ext cx="1828800" cy="1096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228600"/>
            <a:ext cx="8686800" cy="1295280"/>
          </a:xfrm>
          <a:prstGeom prst="rect">
            <a:avLst/>
          </a:prstGeom>
          <a:solidFill>
            <a:srgbClr val="e3e3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5" descr="NewTRIECcolourGreyBkg"/>
          <p:cNvPicPr/>
          <p:nvPr/>
        </p:nvPicPr>
        <p:blipFill>
          <a:blip r:embed="rId2"/>
          <a:stretch/>
        </p:blipFill>
        <p:spPr>
          <a:xfrm>
            <a:off x="380880" y="304920"/>
            <a:ext cx="1828800" cy="1096920"/>
          </a:xfrm>
          <a:prstGeom prst="rect">
            <a:avLst/>
          </a:prstGeom>
          <a:ln w="0">
            <a:noFill/>
          </a:ln>
        </p:spPr>
      </p:pic>
      <p:sp>
        <p:nvSpPr>
          <p:cNvPr id="42" name="Text Box 6"/>
          <p:cNvSpPr/>
          <p:nvPr/>
        </p:nvSpPr>
        <p:spPr>
          <a:xfrm>
            <a:off x="152280" y="6400800"/>
            <a:ext cx="8686800" cy="276480"/>
          </a:xfrm>
          <a:prstGeom prst="rect">
            <a:avLst/>
          </a:prstGeom>
          <a:solidFill>
            <a:srgbClr val="5481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StoneSans"/>
              </a:rPr>
              <a:t>New Realities. New Opportuni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7" descr=""/>
          <p:cNvPicPr/>
          <p:nvPr/>
        </p:nvPicPr>
        <p:blipFill>
          <a:blip r:embed="rId3"/>
          <a:stretch/>
        </p:blipFill>
        <p:spPr>
          <a:xfrm>
            <a:off x="228600" y="1523880"/>
            <a:ext cx="8683560" cy="7146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jpe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920" y="2720880"/>
            <a:ext cx="86104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ngaging employers on immigrant employment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85800" y="495252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izabeth McIsaac, TRI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Toronto LIPs Labour Market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14 April 201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ing capa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3" descr="Roadmap_sub-menu"/>
          <p:cNvPicPr/>
          <p:nvPr/>
        </p:nvPicPr>
        <p:blipFill>
          <a:blip r:embed="rId1"/>
          <a:srcRect l="0" t="10761" r="0" b="3585"/>
          <a:stretch/>
        </p:blipFill>
        <p:spPr>
          <a:xfrm>
            <a:off x="250920" y="2533680"/>
            <a:ext cx="8642160" cy="363852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4"/>
          <p:cNvSpPr/>
          <p:nvPr/>
        </p:nvSpPr>
        <p:spPr>
          <a:xfrm>
            <a:off x="2362320" y="1720800"/>
            <a:ext cx="50720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The Employer Road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www.hireimmigrants.ca/road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CH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Roadmap_content-screen"/>
          <p:cNvPicPr/>
          <p:nvPr/>
        </p:nvPicPr>
        <p:blipFill>
          <a:blip r:embed="rId1"/>
          <a:stretch/>
        </p:blipFill>
        <p:spPr>
          <a:xfrm>
            <a:off x="250920" y="1523880"/>
            <a:ext cx="8642160" cy="510552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5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ing capa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8000" y="1676160"/>
            <a:ext cx="8496360" cy="48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mployer Worksh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ip employers with strategies, resources and tools to effective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rui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t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killed immigr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ruit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rcing channels to attract skilled immigrant job candid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gnizing international credentials; Identifying cultural biases and assumptions that can affect hiring dec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te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ing inclusive work environments to ensure equal participation; Identifying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ystemic barrie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at can prevent full inclusion; Building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ross-cultural competenc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ndividual, organizational); Creating strategies for educating recruiters, hiring managers, and general employee 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60948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ing capa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6" descr="CONNECT_logo"/>
          <p:cNvPicPr/>
          <p:nvPr/>
        </p:nvPicPr>
        <p:blipFill>
          <a:blip r:embed="rId1"/>
          <a:stretch/>
        </p:blipFill>
        <p:spPr>
          <a:xfrm>
            <a:off x="5334120" y="1600200"/>
            <a:ext cx="35812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28640" y="274320"/>
            <a:ext cx="7958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153280" cy="38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ablished in 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cus on finding solutions for including highly skilled immigrants in Toronto Region labour mar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-stakeholder collaboration: employers, universities, colleges, unions, community and immigrant organizations, occupational regulatory bodies, all three levels of gover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ion: A Greater Toronto Region that prospers by fully engaging the contributions of skilled immigra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2286000" y="533520"/>
            <a:ext cx="6551640" cy="9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RIE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ployer eng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457200" y="2057400"/>
            <a:ext cx="2743200" cy="3352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WAREN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creasing employer awareness of the value of immigrant skills, education and exper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ublic awareness (print, TV ads, media / public relation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rategy development: identification of partnership opportunities / target groups, setting prioriti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3505320" y="2057400"/>
            <a:ext cx="2209680" cy="3505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바탕"/>
              </a:rPr>
              <a:t>ACCEPT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바탕"/>
              </a:rPr>
              <a:t>Increasing employer acceptance of the need to explore solutions and opportun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lationship development and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5943600" y="2057400"/>
            <a:ext cx="2819520" cy="304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바탕"/>
              </a:rPr>
              <a:t>A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바탕"/>
              </a:rPr>
              <a:t>Enabling employers to take action and engage in solutions to recruit and integrate skilled immigrants into their workpl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articipation in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CA" sz="1600" spc="-1" strike="noStrike">
                <a:solidFill>
                  <a:srgbClr val="000000"/>
                </a:solidFill>
                <a:latin typeface="Arial"/>
                <a:ea typeface="Arial"/>
              </a:rPr>
              <a:t>Spokespers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CA" sz="1600" spc="-1" strike="noStrike">
                <a:solidFill>
                  <a:srgbClr val="000000"/>
                </a:solidFill>
                <a:latin typeface="Arial"/>
                <a:ea typeface="Arial"/>
              </a:rPr>
              <a:t>Champ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CA" sz="1600" spc="-1" strike="noStrike">
                <a:solidFill>
                  <a:srgbClr val="000000"/>
                </a:solidFill>
                <a:latin typeface="Arial"/>
                <a:ea typeface="Arial"/>
              </a:rPr>
              <a:t>Informing sol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6"/>
          <p:cNvSpPr/>
          <p:nvPr/>
        </p:nvSpPr>
        <p:spPr>
          <a:xfrm>
            <a:off x="1066680" y="6019920"/>
            <a:ext cx="6172200" cy="1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ployer eng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lleng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 cont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nover of employer contac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contacts within organizations but not coordin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ing buy-in across all leve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priate and effective opportunities for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sales cyc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rnal fa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ployer fatig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5640" y="533160"/>
            <a:ext cx="655164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es TRIEC d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50920" y="2276640"/>
            <a:ext cx="864216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24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nes and collaborates with partners, creating opportunities for skilled immigrants to connect to the local labour market.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individual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24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s with key stakeholders, particularly employers, building their awareness and capacity to better integrate skilled immigrants into the workforce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organizational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24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s with all levels of government, enhancing coordination and effecting more responsive policy and programs for skilled immigrant employment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systemic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514240" y="259920"/>
            <a:ext cx="6305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9280" y="4114440"/>
            <a:ext cx="799308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ccupation-specific matches between a newly arrived skilled immigrant and their established Canadian counterp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ce 2004, more than 5000 matches have been ma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arly 80% of mentees surveyed have found full-time pos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icipation of 50+ corporate partners to recruit men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TMP new logo"/>
          <p:cNvPicPr/>
          <p:nvPr/>
        </p:nvPicPr>
        <p:blipFill>
          <a:blip r:embed="rId1"/>
          <a:stretch/>
        </p:blipFill>
        <p:spPr>
          <a:xfrm>
            <a:off x="4495680" y="2743200"/>
            <a:ext cx="3581640" cy="83808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5"/>
          <p:cNvSpPr/>
          <p:nvPr/>
        </p:nvSpPr>
        <p:spPr>
          <a:xfrm>
            <a:off x="6858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ing conn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1"/>
          <p:cNvSpPr/>
          <p:nvPr/>
        </p:nvSpPr>
        <p:spPr>
          <a:xfrm>
            <a:off x="304920" y="1905120"/>
            <a:ext cx="56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migrants lack professional networks that help make linkages to employment opportuniti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ing conn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468360" y="2133720"/>
            <a:ext cx="56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migrants lack Canadian work experience often required by employe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684360" y="3505320"/>
            <a:ext cx="81356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id internship program that provides first Canadian work experience, operated by Career Edge Orga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ce 2003 over 1000 interns have been plac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ly there are over 350 active host organiz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arly 80% of interns secure full-time positions in their f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8" descr=""/>
          <p:cNvPicPr/>
          <p:nvPr/>
        </p:nvPicPr>
        <p:blipFill>
          <a:blip r:embed="rId1"/>
          <a:srcRect l="0" t="13406" r="83102" b="79408"/>
          <a:stretch/>
        </p:blipFill>
        <p:spPr>
          <a:xfrm>
            <a:off x="5562720" y="2590920"/>
            <a:ext cx="2741400" cy="93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ing aware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3" descr="TRIEC_posters_pg2"/>
          <p:cNvPicPr/>
          <p:nvPr/>
        </p:nvPicPr>
        <p:blipFill>
          <a:blip r:embed="rId1"/>
          <a:stretch/>
        </p:blipFill>
        <p:spPr>
          <a:xfrm>
            <a:off x="304920" y="1676520"/>
            <a:ext cx="3429000" cy="48006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Triec-Xerox_poster_smallsize"/>
          <p:cNvPicPr/>
          <p:nvPr/>
        </p:nvPicPr>
        <p:blipFill>
          <a:blip r:embed="rId2"/>
          <a:stretch/>
        </p:blipFill>
        <p:spPr>
          <a:xfrm>
            <a:off x="4114800" y="2076480"/>
            <a:ext cx="484992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ing aware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Logo STeam Whistle corp_grn_bg_sm"/>
          <p:cNvPicPr/>
          <p:nvPr/>
        </p:nvPicPr>
        <p:blipFill>
          <a:blip r:embed="rId1"/>
          <a:stretch/>
        </p:blipFill>
        <p:spPr>
          <a:xfrm>
            <a:off x="324000" y="2349360"/>
            <a:ext cx="1396800" cy="15130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9" descr="St. Michaels logo small_nobck.psd"/>
          <p:cNvPicPr/>
          <p:nvPr/>
        </p:nvPicPr>
        <p:blipFill>
          <a:blip r:embed="rId2"/>
          <a:stretch/>
        </p:blipFill>
        <p:spPr>
          <a:xfrm>
            <a:off x="2209680" y="2895480"/>
            <a:ext cx="1779840" cy="11559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IS_awards"/>
          <p:cNvPicPr/>
          <p:nvPr/>
        </p:nvPicPr>
        <p:blipFill>
          <a:blip r:embed="rId3"/>
          <a:stretch/>
        </p:blipFill>
        <p:spPr>
          <a:xfrm>
            <a:off x="3124080" y="1600200"/>
            <a:ext cx="701640" cy="103032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7"/>
          <p:cNvSpPr/>
          <p:nvPr/>
        </p:nvSpPr>
        <p:spPr>
          <a:xfrm>
            <a:off x="4038480" y="1905120"/>
            <a:ext cx="49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migrant Success Aw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18" descr="i3-DVR-Logo_nobck.psd"/>
          <p:cNvPicPr/>
          <p:nvPr/>
        </p:nvPicPr>
        <p:blipFill>
          <a:blip r:embed="rId4"/>
          <a:stretch/>
        </p:blipFill>
        <p:spPr>
          <a:xfrm>
            <a:off x="6629400" y="2819520"/>
            <a:ext cx="1336680" cy="6681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0" descr="Nytriclogotm_RGB.eps"/>
          <p:cNvPicPr/>
          <p:nvPr/>
        </p:nvPicPr>
        <p:blipFill>
          <a:blip r:embed="rId5"/>
          <a:stretch/>
        </p:blipFill>
        <p:spPr>
          <a:xfrm>
            <a:off x="4724280" y="3048120"/>
            <a:ext cx="1263600" cy="11300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4" descr="EY_black_e_RGB.eps"/>
          <p:cNvPicPr/>
          <p:nvPr/>
        </p:nvPicPr>
        <p:blipFill>
          <a:blip r:embed="rId6"/>
          <a:stretch/>
        </p:blipFill>
        <p:spPr>
          <a:xfrm>
            <a:off x="3851280" y="5516640"/>
            <a:ext cx="1981080" cy="4507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1" descr="XeroxResearchCentre_RGB.eps"/>
          <p:cNvPicPr/>
          <p:nvPr/>
        </p:nvPicPr>
        <p:blipFill>
          <a:blip r:embed="rId7"/>
          <a:stretch/>
        </p:blipFill>
        <p:spPr>
          <a:xfrm>
            <a:off x="1332000" y="5373720"/>
            <a:ext cx="2057400" cy="8920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1" descr="CH2MLOGO_RGB.eps"/>
          <p:cNvPicPr/>
          <p:nvPr/>
        </p:nvPicPr>
        <p:blipFill>
          <a:blip r:embed="rId8"/>
          <a:stretch/>
        </p:blipFill>
        <p:spPr>
          <a:xfrm>
            <a:off x="3124080" y="4572000"/>
            <a:ext cx="2171880" cy="6112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3" descr="Logo GBC 2007 logo_301"/>
          <p:cNvPicPr/>
          <p:nvPr/>
        </p:nvPicPr>
        <p:blipFill>
          <a:blip r:embed="rId9"/>
          <a:stretch/>
        </p:blipFill>
        <p:spPr>
          <a:xfrm>
            <a:off x="611280" y="4076640"/>
            <a:ext cx="1800000" cy="13492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7" descr="FST_logo_RGB.eps"/>
          <p:cNvPicPr/>
          <p:nvPr/>
        </p:nvPicPr>
        <p:blipFill>
          <a:blip r:embed="rId10"/>
          <a:stretch/>
        </p:blipFill>
        <p:spPr>
          <a:xfrm>
            <a:off x="6705720" y="3809880"/>
            <a:ext cx="1636560" cy="10749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5" descr="pg 10 TRCA-colour"/>
          <p:cNvPicPr/>
          <p:nvPr/>
        </p:nvPicPr>
        <p:blipFill>
          <a:blip r:embed="rId11"/>
          <a:stretch/>
        </p:blipFill>
        <p:spPr>
          <a:xfrm>
            <a:off x="6300720" y="5157720"/>
            <a:ext cx="226224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2T20:13:15Z</dcterms:created>
  <dc:creator>Stephen Wilson</dc:creator>
  <dc:description/>
  <dc:language>en-US</dc:language>
  <cp:lastModifiedBy>sguerra</cp:lastModifiedBy>
  <dcterms:modified xsi:type="dcterms:W3CDTF">2010-04-15T18:57:57Z</dcterms:modified>
  <cp:revision>62</cp:revision>
  <dc:subject/>
  <dc:title>Slide 1</dc:title>
</cp:coreProperties>
</file>